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2B4-4C4B-4A02-A9A0-C87A336D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20FB-7878-4264-BB93-4271930D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EA8-931B-4E21-A098-00357DA4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E44-67F6-4350-8B03-4FACF30A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910-E36E-47EC-98C0-4CAC81E1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246F-3BC8-43DA-BE86-9D0CCD39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A18-7A41-4272-9790-4D059EC7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8970-99CA-4E62-BA02-0A023DBF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4F2-CB0F-4B68-A4DD-4A98D6D0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91F6-EE0B-4349-99AA-BCD7ED09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4068-0359-43F8-904F-80536F9C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8BE4-7160-4198-BE7F-6B72B049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F225-26B5-4C2B-8EA9-CDD22EEB431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1360" y="4000680"/>
            <a:ext cx="771516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6000" spc="-1" strike="noStrike">
                <a:solidFill>
                  <a:srgbClr val="000000"/>
                </a:solidFill>
                <a:latin typeface="Castellar"/>
              </a:rPr>
              <a:t>CULTURAL GEOGRAPH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8"/>
          <p:cNvSpPr/>
          <p:nvPr/>
        </p:nvSpPr>
        <p:spPr>
          <a:xfrm>
            <a:off x="611280" y="5229360"/>
            <a:ext cx="46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Mentifacts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tells us what we ought to believe, what we should value and how we ought to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al integration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the interlocking nature of all aspects of a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al Integration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means that any cultural object or act may have a number of mean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714320"/>
            <a:ext cx="89298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6600" spc="-1" strike="noStrike">
                <a:solidFill>
                  <a:srgbClr val="000000"/>
                </a:solidFill>
                <a:latin typeface="comic"/>
              </a:rPr>
              <a:t>CULTURE CHAN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Culture change is induc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Accult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"/>
              </a:rPr>
              <a:t>Innov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s changes to the culture that result from ideas created within the social group itself and adopted by the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ed in improvement in materia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ment of nonmaterial form of social structure and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PH" sz="3600" spc="-1" strike="noStrike">
                <a:solidFill>
                  <a:srgbClr val="000000"/>
                </a:solidFill>
                <a:latin typeface="Arial"/>
              </a:rPr>
              <a:t>All innovations has a radiating impact upon the web of culture; the more basic the innovation, the more pervasive its consequ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600" spc="-1" strike="noStrike">
                <a:solidFill>
                  <a:srgbClr val="000000"/>
                </a:solidFill>
                <a:latin typeface="Arial"/>
              </a:rPr>
              <a:t>Agricultural 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Hearth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use to describe those restricted areas of innovation from which key culture elements diffused to exert an influence on surrounding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7200" spc="-1" strike="noStrike">
                <a:solidFill>
                  <a:srgbClr val="000000"/>
                </a:solidFill>
                <a:latin typeface="comic"/>
              </a:rPr>
              <a:t>Diffus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wo process of diffusion is involve in dif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Arial"/>
              </a:rPr>
              <a:t>People move to a new area and take their culture with them</a:t>
            </a:r>
            <a:r>
              <a:rPr b="1" lang="en-PH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Arial"/>
              </a:rPr>
              <a:t>The spread of information about an innovation throughout a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Arial"/>
              </a:rPr>
              <a:t>Syncretism-</a:t>
            </a:r>
            <a:r>
              <a:rPr b="0" lang="en-PH" sz="2800" spc="-1" strike="noStrike">
                <a:solidFill>
                  <a:srgbClr val="000000"/>
                </a:solidFill>
                <a:latin typeface="Arial"/>
              </a:rPr>
              <a:t> the process of the fusion of old and new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400" spc="-1" strike="noStrike">
                <a:solidFill>
                  <a:srgbClr val="000000"/>
                </a:solidFill>
                <a:latin typeface="comic"/>
              </a:rPr>
              <a:t>ACCULTU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0040" y="142884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Process by which one culture group undergoes a major modification by adopting many of the characteristics of another, usually dominant, cultur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5400" spc="-1" strike="noStrike">
                <a:solidFill>
                  <a:srgbClr val="000000"/>
                </a:solidFill>
                <a:latin typeface="Baskerville Old Face"/>
              </a:rPr>
              <a:t>CULTURAL DIVERS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Ethn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400" spc="-1" strike="noStrike">
                <a:solidFill>
                  <a:srgbClr val="000000"/>
                </a:solidFill>
                <a:latin typeface="Arial"/>
              </a:rPr>
              <a:t>Culture – </a:t>
            </a:r>
            <a:r>
              <a:rPr b="0" lang="en-PH" sz="4400" spc="-1" strike="noStrike">
                <a:solidFill>
                  <a:srgbClr val="000000"/>
                </a:solidFill>
                <a:latin typeface="Arial"/>
              </a:rPr>
              <a:t>is as much a part of the regional differentiation of the earth  as are topography, climate, and other aspects of physical environ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7200" spc="-1" strike="noStrike">
                <a:solidFill>
                  <a:srgbClr val="000000"/>
                </a:solidFill>
                <a:latin typeface="Baskerville Old Face"/>
              </a:rPr>
              <a:t>LANGUAG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6600" spc="-1" strike="noStrike">
                <a:solidFill>
                  <a:srgbClr val="000000"/>
                </a:solidFill>
                <a:latin typeface="comic"/>
              </a:rPr>
              <a:t>LANGUA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 defined simply as an organized system of speech by which people communicate with each other with mutual compreh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most important medium by which culture is transmit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can be both a cause and a symbol of cultural differenti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Language 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i="1" lang="en-PH" sz="3200" spc="-1" strike="noStrike">
                <a:solidFill>
                  <a:srgbClr val="000000"/>
                </a:solidFill>
                <a:latin typeface="Arial"/>
              </a:rPr>
              <a:t>linguistic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family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a group of languages thought to have a common origin in a single, earlier ton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Subfamilies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or bran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Social dialects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denotes social class and educational levels, with speakers of higher socioeconomic status or educational achievement most likely to follow the norms of their standard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Vernacular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nonstandard language or dialect adopted by the socia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Linguistic Geography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he study of character and spatial pattern of geographic, or regional dial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Pidgin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is an amalgam of languages, usually a simplified form of one of them, with borrowings from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 Characterized by a highly simplified grammatical structure and a sharply reduced vocabulary adequate to express basic ideas but not complex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reole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invariably acquire a more complex grammatical structure and enhanced vocabu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Lingua franca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established language used habitually for communication by people whose native tongues are mutually incomprehen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PH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8000" spc="-1" strike="noStrike">
                <a:solidFill>
                  <a:srgbClr val="000000"/>
                </a:solidFill>
                <a:latin typeface="Baskerville Old Face"/>
              </a:rPr>
              <a:t>RELIG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omic"/>
              </a:rPr>
              <a:t>CLASSIFICATION AND DISTRIBUTION OF RELI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Monotheis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belief in a single de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Polytheis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belief in many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UNIVERSALIZING RELIG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Budd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Universalizing Religions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is open to anyone who chooses to make a symbolic commi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400" spc="-1" strike="noStrike">
                <a:solidFill>
                  <a:srgbClr val="000000"/>
                </a:solidFill>
                <a:latin typeface="Castellar"/>
              </a:rPr>
              <a:t>COMPONENTS OF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traits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are units of learned behaviour ranging from the language spoken to the tools used or to the games played. (object, technique, attitu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complex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individual culture traits that are functionally inter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Ethnic Religions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have strong territorial and cultural group iden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one becomes a member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birth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by adoption of a complex lifestyle and cultural identity, not by a simple declaration of fa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Tribal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(or traditional)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religions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special forms of ethnic religions distinguished by their small size, heir unique identity with localized culture groups not yet fully absorbed into modern society and their close ties to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Animis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life exist in all objects, from rocks and trees and lakes and mountains or that such objects are the abode of the  dead, of spirits, and of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Shamanis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form of tribal religion that involves community acceptance of a shaman who, through special powers, can intercede with and interpret the spirit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Secularism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an indifference to or rejection of religion and religious belief, is an increasing part of many modern societies, particularly of the industrialized countries and those now or recently under communist reg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PH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5000"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7200" spc="-1" strike="noStrike">
                <a:solidFill>
                  <a:srgbClr val="000000"/>
                </a:solidFill>
                <a:latin typeface="Baskerville Old Face"/>
              </a:rPr>
              <a:t>THE PRINCIPAL RELIG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JUDA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HINDU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BUDD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6000" spc="-1" strike="noStrike">
                <a:solidFill>
                  <a:srgbClr val="000000"/>
                </a:solidFill>
                <a:latin typeface="Baskerville Old Face"/>
              </a:rPr>
              <a:t>JUDAI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laid the foundation for  both Christianity and Isl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closely identified with a single ethnic group and with a complex and restrictive set of belief and la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6000" spc="-1" strike="noStrike">
                <a:solidFill>
                  <a:srgbClr val="000000"/>
                </a:solidFill>
                <a:latin typeface="Baskerville Old Face"/>
              </a:rPr>
              <a:t>CHRISTIAN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its origin is in the life and teachings of Jesus(a Jewish preacher of the 1</a:t>
            </a:r>
            <a:r>
              <a:rPr b="0" lang="en-PH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century of the modern era, whim his followers believed was a messiah promised by Go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 Missions was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onversion,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missionary work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was critical in its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syste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a larger spatial reality and genera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region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a portion of the earth’s surface occupied by people sharing recognizable and distinctive cultural character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real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he term recognizes s large segment of the earth’s surface having fundamental uniformity in its cultural characteristics and showing a significant difference in them from adjacent real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Castellar"/>
              </a:rPr>
              <a:t>INTERACTION OF PEOPLE AND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al ecology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the study of the relationship between a culture group and the natural environment it occup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download (1).jpg"/>
          <p:cNvPicPr/>
          <p:nvPr/>
        </p:nvPicPr>
        <p:blipFill>
          <a:blip r:embed="rId1"/>
          <a:stretch/>
        </p:blipFill>
        <p:spPr>
          <a:xfrm>
            <a:off x="1714680" y="3143160"/>
            <a:ext cx="3929040" cy="3143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600" spc="-1" strike="noStrike">
                <a:solidFill>
                  <a:srgbClr val="000000"/>
                </a:solidFill>
                <a:latin typeface="Castellar"/>
              </a:rPr>
              <a:t>ENVIRONMENTS AS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Environmental determinis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he belief that the physical environment by itself shapes humans, the actions, and their thou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Possibilism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 people are the dynamic forces of cultural develo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400" spc="-1" strike="noStrike">
                <a:solidFill>
                  <a:srgbClr val="000000"/>
                </a:solidFill>
                <a:latin typeface="Castellar"/>
              </a:rPr>
              <a:t>SUBSYSTEMS OF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Technological subsystems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composed of the material objects and the techniques of their use by means of which people are able to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Sociological subsyste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he sum of those expected and accepted patterns of interpersonal relations that find their outlet in economic, political, military, religious, kinship, and other associ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Ideological subsystem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consist of the ideas, beliefs, and knowledge of a culture and of the ways in which they are expressed in speech or other forms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(Mythologies, theologies, legend, literature, philosophy, folk, wisdom &amp; commonsense knowled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irish</cp:lastModifiedBy>
  <dcterms:modified xsi:type="dcterms:W3CDTF">2012-09-30T16:56:22Z</dcterms:modified>
  <cp:revision>774</cp:revision>
  <dc:subject/>
  <dc:title>Diapositiva 1</dc:title>
</cp:coreProperties>
</file>